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BF48-9828-4C48-AF5C-6C34A64615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E0A1-0B86-4389-84DF-679242CA88B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261-5AA4-4E71-8315-80E0EAC0ABA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EB59-AC7A-438D-97BC-65051A3659FF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B25-6323-4805-915C-A5A433CA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7C6-C8BA-4037-864F-910A29D9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9D9-D8AA-4EEB-AA54-8C60AFB3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1D1-5C6D-4AA3-A624-2ABA7505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3F3-5FDD-4638-9BD1-316187E4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D02-67F1-4569-BC85-C6985793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1B7-B885-4596-A7C8-D4ADE402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76C-14B9-4BAB-A120-F5BEE7FC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2C4-97CC-426F-8DA1-3131CD80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D14-6157-499D-B7B2-1749DE39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34E-E363-48CA-B3AA-3B8680A6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B39-71E8-4E5D-A2AF-E4E798C3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D522-27A1-4D54-A936-27274DDC84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  <a:ea typeface="Arial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  <a:ea typeface="Arial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  <a:ea typeface="Arial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k</cp:lastModifiedBy>
  <dcterms:modified xsi:type="dcterms:W3CDTF">2018-07-21T10:09:41Z</dcterms:modified>
  <cp:revision>29</cp:revision>
  <dc:subject/>
  <dc:title>Slajd 1</dc:title>
</cp:coreProperties>
</file>